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311-966E-4EA0-858A-4AD6CCE9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C0F-2DE7-43C7-AA90-60DE43BC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8C7-DD67-40B6-8B50-5D3AD83C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AD5-B2F8-49C9-B668-062F1EFE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D478-DE86-4773-AC7E-4B79040F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FCEB-BBE4-4F0B-B96A-C3D5CD02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BD30-D3E2-4F54-8B18-F21585C1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F2C6-7CB9-4E19-905F-4E4307EC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18EB-26BF-425B-A1E1-200DF127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4B40-C356-4528-BD3E-29E2281A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8F0D-2F5B-48DE-8FE3-DF2E9EAE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CE1-4598-494E-AA79-1B51D75C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90CF-F794-4CD6-95B2-EF8F526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B8F5-859C-4257-9E44-BFD9E92A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63BF-23D6-4A1C-A9FC-27F40EC8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8275-44AB-4799-BC87-02BE5C72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3154-B024-4ECB-9B56-8BA7AB6D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A6E-7878-421E-B171-96BC90A3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D96-6EA5-4C32-8924-BB2AB102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AD4-9D74-4CFF-AC91-A82C9696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54F-58EB-4C8C-B37A-E961413D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0A2-EE43-465F-AE41-C461F9A3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4BD-519F-4746-8543-C7ACF194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F0D-7626-4D1C-A728-5EF1900C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0797-AE59-41FD-95B9-17E3E669B5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D5CF-B0FB-45B4-8C6B-C81C985399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21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b46d0"/>
                </a:solidFill>
                <a:latin typeface="France YU"/>
                <a:ea typeface="Times New Roman"/>
              </a:rPr>
              <a:t>МЕХАНОТЕРАПИЈА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акум терапија је стара преко хиљаду година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име, постоје записи да су стари Кинези стављаљем купица испод којих је био негативни притисак третирали одредјена обољења посебно из групе васкуларних порем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м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 је још 1830. гдоине кори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а ова метода под називом “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ut massag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.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warschi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је детаљно разрадио ову методу и објаснио физиолошки нацин деловања ове терапије на организам. Основни део је стаклена купа која се поставља на од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мент тела који се намазе парафинским уљем и помо</a:t>
            </a:r>
            <a:r>
              <a:rPr b="0" lang="sl-SI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кум пумпе из купе се излваци ваздух и ствара се негативни притис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данашњих апарата кјои се користе, познат је "Васкулатор" и новијег датума "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 терапија је најпре поцела да се примењује у Данској, да би задњих година добила знацајно место у целом свету као један битан физикални фактор у превенцији и лецењу многих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бинација подпритиска и надпритиска повецава пумпно дејство тела тако да стимулише циркулацију крви и т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сти у ткиву, а што утице на побољшање процеса размене материја у 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и. Експериментални радови су потврдили стварање васодилататорних материја (серотонин, хистамин). Долази до пов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не елиминације распадних продуката метаболизма. Истовремено преко рецептора козе делује се и на више  нивое централног нервног систем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32000" y="1922400"/>
            <a:ext cx="735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в овај процес се прати веома осетљивом електроником која је програмирана тако да мозе истовремено да регулише више разл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их подпритисака преко пумпног система у апарату. Мозе се радити са подпритиском од 0,9 атмосфера до испод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5 атмосфера које одговарају притиску на висини од око 5000 мета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еханотерапија манипулацијам</a:t>
            </a:r>
            <a:r>
              <a:rPr b="0" lang="sr-C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о истезање меких ткива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964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МАНУЕЛНЕ ТЕРАПИЈСКЕ ТЕХН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ЕКСТЕНЗИОНЕ ПРОЦЕДУРЕ - ТРАКЦИ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3760" y="196488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 подели по Laverniеux-а тракције се деле 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езањe у п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љи po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о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a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,хоризонтална,нагибн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по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oll-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дистракционим столицама и столовима уз употребу манонме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а истезања одређених делова кичме путем довођења болесниковог тела у одређене положа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у току активних кинезитерапијских веж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ракција слабинске и вратне кич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59436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9"/>
          <p:cNvGrpSpPr/>
          <p:nvPr/>
        </p:nvGrpSpPr>
        <p:grpSpPr>
          <a:xfrm>
            <a:off x="1258920" y="1773360"/>
            <a:ext cx="9494280" cy="2611080"/>
            <a:chOff x="1258920" y="1773360"/>
            <a:chExt cx="9494280" cy="2611080"/>
          </a:xfrm>
        </p:grpSpPr>
        <p:sp>
          <p:nvSpPr>
            <p:cNvPr id="208" name="AutoShape 18"/>
            <p:cNvSpPr/>
            <p:nvPr/>
          </p:nvSpPr>
          <p:spPr>
            <a:xfrm>
              <a:off x="1258920" y="1773360"/>
              <a:ext cx="9494280" cy="26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9" name="Picture 20" descr=""/>
            <p:cNvPicPr/>
            <p:nvPr/>
          </p:nvPicPr>
          <p:blipFill>
            <a:blip r:embed="rId2"/>
            <a:stretch/>
          </p:blipFill>
          <p:spPr>
            <a:xfrm>
              <a:off x="2409480" y="1773360"/>
              <a:ext cx="4145400" cy="223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отерапија подразумева примену звука у терапијске сврхе. Под звуцном енергијом подразумева се облик таласастог кретања, представљен лонгитудиналним 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треперење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ица материје, које се у виду згушњавања и раз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ња простире кроз гасовиту,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у средину. Брзина простирања зависи од фреквенције и таласне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7160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= F *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 - фреквeн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- талaснa дужи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- брзина пrостiraњ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одела механотерап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пецијални облици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паратур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хипобарицне процед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е терапијске техник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манипула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сктензионе процедуре (трак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онотерапија (инфра и ултразву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вуцни таласи преко 16 КХз који се простиру у облику лонгитудианлних таласа изазивајуци периоде дилатације и компресије (притисак и разређење) називају се ултразвук. Биолошке ефекте ултразвука изуцавао је медју првима Похлман 1938-1950. године. Његови налази су допринели да се ултразвук широко користи у медицинској пракси. Ултразвук је откривен 1917. године од стране Лагевин-а, а прва примена у медицини датира од 1928. године када су Wоод и Лоомис приказали терапијске ефекте деловања ултразвука на цовецји организ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1280" y="1609560"/>
            <a:ext cx="813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лтразвук који се користи у физикалној медицини има фреквенцију 87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K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и таласну дузину 0,4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Интензитет ултразвука подразумева звуцну енергију коју емитује извор ултразвука на јединицу површине и изразава се у W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 Брзина простирања ултразвука кроз неку материју зависи од еластицних својстава средине и температуре. Нај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 брзину простирања ултразвук има кроз метале - гвоз|е око 50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кроз воду око 15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кроз зива ткива 154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а најспорије кроз ваздух 3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Пораст температуре средине кроз коју пролази ултразвук условљава и повецање његове брзин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808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а граници две средине са разлицитим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ким отпором, ултразвук се делом прелама а делом рефлектује, што зн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да се само један део енергије ултразвука преноси у другу средину и поб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је даље таласање. То говори да, иако се ултразвук преноси кроз средину праволинијски, у нашем организму, због разлицитог акустицног отпора наших ткива, он се прелама и мења правац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2230200"/>
            <a:ext cx="74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лаз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кроз раз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те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средине део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се апсорбује и претвара у топлотну енергију. Апсорбција ултразвуцних таласа зависи од њихове фреквенције и звуцне проводљивости средине. Уколико је фреквенција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, то је и апсорпциј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. Применом фреквенције од 1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1000 К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 дубина је 2-5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да би фреквенција од 3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ала продорност 1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след талaсањa средине кроз коју пролази ултразвук у фазaма згушњавaња (компресије) и раз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ња (декомпресије - дилатaције) мења се и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к. Променe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а су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ико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уколико је амплитуда осциловањa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4292640"/>
            <a:ext cx="82184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Честице материје које се н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 у пољу ултразв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ног осциловања имају брзину у моменту промене правца кретања која се мозе упоредити са брзином у центрифугама на 20.000 обртаја у минути. Сликовито изразено, када би запуш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од плуте за литарску флашу могао добити толико убрзање, вршио би притисак од 300 kgr/cm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Object 9"/>
          <p:cNvGraphicFramePr/>
          <p:nvPr/>
        </p:nvGraphicFramePr>
        <p:xfrm>
          <a:off x="2700360" y="1268280"/>
          <a:ext cx="386064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86064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марно физ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механ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терм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физикохемијс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неурорефлексно деловањ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кундарно физ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лoш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лге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азм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тиинфламаторно деловањ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мпатик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микроциркулације, трофике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генерације тки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 пропустљивост целијске мембран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биосинтезе беланцеви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мишицног тону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ресорпције екстравазата и продуката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ог метабол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и и опр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76320">
            <a:solidFill>
              <a:srgbClr val="7b46d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добијање ултразвука користе се след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изво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магнетостриктив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) електро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ехан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гнетостриктивн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ханицки извор је звуцна сирена. Перфорирана плоца се окреце неколико десетина хиљада пута у секунди око своје осе. Кроз ове перфорације на плоци пропушта се ваздух и ствара ултразвук фреквенције до 3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гнетостриктивни извор је израз да се неке феролегуре у јаком магнетном пољу деформишу (магнетострикција) и на излазу ствара се ултразвук фреквенције до 17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03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Облиц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стоји више метод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их покрета руку којима се изводи клас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 терапијск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. Као основни видови издвајају с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ла</a:t>
            </a:r>
            <a:r>
              <a:rPr b="1" lang="sr-CS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ђ</a:t>
            </a: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ењ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трља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њеце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лупк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вибрације</a:t>
            </a:r>
            <a:r>
              <a:rPr b="0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Електромеханички и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)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ектро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(пи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) извор користи особину кварцних кристала, сењетових соли (турмалина и др. материја) да се при излагању наизме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компресији и декомпресији на површини тих материја ствара електрицитет. Уколико сада те материје излозимо деловању високофрекевнтног електромагнетског поља (високофреквентне струје) д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мо обрнути пиј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 и продукцију ултразвука. Фреквенција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бити и преко милион осцилација у секун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хника примен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651200" y="1600200"/>
            <a:ext cx="4035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зирањ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односу на интензитет, дозе ултразвука с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ле 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лабе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5-0,4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редњe: 0,5-1,0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јаке дозe: преко 1 W/cm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057040"/>
            <a:ext cx="7643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пулсни ултразвук представља дисконтинуирану примену ултразвука, који се добија период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м прекидима континуираног ултразвука. Сви, данас располозиви, апарати за ултразвук имају мог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ост емитовања и константног и импулсног ултразвука. Фреквенција импулсног ултразвука нај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је 1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 однос трајањ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х таласа (импулса) и паузе се к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у распону од 1:5 до 1:1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Object 3"/>
          <p:cNvGraphicFramePr/>
          <p:nvPr/>
        </p:nvGraphicFramePr>
        <p:xfrm>
          <a:off x="1187280" y="1844640"/>
          <a:ext cx="7956720" cy="376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95672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87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ум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артритис, дегенеративни реуматизам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itrenova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кутра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kchtere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успорено стварање калуса (ниске дозе)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dec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трофија (ниске дозе), дерматозе (фреквенција 3 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z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неуралгије, каузалгије, разбијање каменца у унутрашњим органима (фокусирај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лтразвук), ампутациони неуриноми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unau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деловање на ганглион стелату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Контра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што су на ултразв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е таласе најосетљивије високо диферентоване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е ЦНС као и уобл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ни крвни елементи) отуда основна контраиндикација је примена ултразвука у пределу главе, медулае спиналис, гравидне материце гравидне материце и у де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м узрасту.</a:t>
            </a:r>
            <a:r>
              <a:rPr b="0" lang="en-U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430440" cy="3854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471240" y="17002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ла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736320" y="206064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њ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4140360" y="2708280"/>
            <a:ext cx="425592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84080" y="2492280"/>
            <a:ext cx="3211560" cy="3608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5219640" y="2606760"/>
            <a:ext cx="3138480" cy="3524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725040" y="1916280"/>
            <a:ext cx="15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Че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055640" y="18446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328320"/>
            <a:ext cx="8158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900000" y="2606760"/>
            <a:ext cx="3138480" cy="352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5219640" y="2690640"/>
            <a:ext cx="3062520" cy="34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2" name="Rectangle 5"/>
          <p:cNvSpPr/>
          <p:nvPr/>
        </p:nvSpPr>
        <p:spPr>
          <a:xfrm>
            <a:off x="874080" y="206064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упкање - сецк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662880" y="2133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ибр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пецијални облици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79280" y="2327040"/>
            <a:ext cx="67071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везивног тк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перио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нервних тац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) сегментн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ПАРАТУРНА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2327040"/>
            <a:ext cx="692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Пнеум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- синкардијал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Виб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Хид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урна масаж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200400" cy="3456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40360" y="2781360"/>
            <a:ext cx="51847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) Пнеумомасажа - синкардијалн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б) Вибромасаж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ц) Хидромасажа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хидрокинетичке процедур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katarinaparezanovicilic@gmail.com</cp:lastModifiedBy>
  <dcterms:modified xsi:type="dcterms:W3CDTF">2020-09-26T16:59:47Z</dcterms:modified>
  <cp:revision>15</cp:revision>
  <dc:subject/>
  <dc:title>MEHANOTERAPIJA </dc:title>
</cp:coreProperties>
</file>